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A37-31B1-4A9C-8A49-616C95B5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A75-C7E8-4218-B5D9-471C8150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D28-4325-4E22-A594-05B5A3AC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535-2C40-4FB8-B37E-16325930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108-FC47-4FFC-8045-006FB24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48C-1480-4326-A1A3-9D01DAF7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094-C060-4614-92F3-D6A35B5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6DF-18BC-420B-A6B3-FA877312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C67-88FC-48E0-B4F3-64C37CC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8DA-FFD8-43ED-8F27-D0EA7CF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9E6-EF67-469E-87A7-92457540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D78-AEE3-452C-B6AD-1D4AF6F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B96-34AF-4613-910C-E4FE409B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technet/security" TargetMode="External"/><Relationship Id="rId3" Type="http://schemas.openxmlformats.org/officeDocument/2006/relationships/hyperlink" Target="http://www.securiteam.com/windowsntfocus" TargetMode="External"/><Relationship Id="rId4" Type="http://schemas.openxmlformats.org/officeDocument/2006/relationships/hyperlink" Target="http://www.foundstone.com/" TargetMode="External"/><Relationship Id="rId5" Type="http://schemas.openxmlformats.org/officeDocument/2006/relationships/hyperlink" Target="http://www.ntbugtraq.com/" TargetMode="External"/><Relationship Id="rId6" Type="http://schemas.openxmlformats.org/officeDocument/2006/relationships/hyperlink" Target="http://razor.bindview.com/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764640"/>
            <a:ext cx="61722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Windows 2000 biztonság a gyakorlatb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4220640"/>
            <a:ext cx="5333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Pusztai László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vezető konzule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Microsoft Magyarorszá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31000"/>
            <a:ext cx="13320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Mit mesélnek a bizonyítékok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Naplófájlok részletes elemzé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Koordináltan történik az összes naplóra néz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események menetét fel kell térképez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ögzíteni a fix pontokat, és hipotézist állítani fel ráju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Ellenőrizni a hipotézi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onyítékokat gyűjten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aplók mentése (tűzfal, web, eventlog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r /s /b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 – majd a frissiben odakerült, szokatlan fájlokról menté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baseline alapj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á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list /t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 – majd az összes futtatott image-ről menté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debugging toolki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find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 – majd az eredmény fájlokról mentés (NTFS-re!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Foundston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port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 – majd rögzíteni a nyitott csatornák célcímei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Foundston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irakósjáté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űzfal naplók: port scan nyoma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IS naplók: a port scan napján készült log „felülíródott” az előző napiv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Fájlok: az ntvdm.exe nevesített adatfolyamában ül egy nc.co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ki ráadásul kifelé egy ismeretlen gép 53-as portjával tart fenn TCP kapcsolato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él IP cím pedig megegyezik a port scan-ban szereplő forráscímmel -- BING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irakósjáté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Kérdés még: mi a helyzet az adatokkal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következő jelek utalnak az SQL kompromittálódására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sql.exe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 vagy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sql.exe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 image a gépen (akár átnevezve i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Routolt NBT kapcsolat kifelé (139-es port, fport vagy rinetd segítségével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ikertelen logon kérések az SQL fel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tllast -f </a:t>
            </a: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(Foundston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ikeres logon kérések az SQL felé kívülről routolv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tstat -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A Duwamish On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Az 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A nyomoz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onzekvenciák és felkészülé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onzekvenciá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lkéstünk – most a támadó volt gyorsabb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belülről kifelé irányuló forgalmat is szűrni és naplózni kell a tűzfal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hacker célja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onosítani és megtámadni a hálózat csatlakozási pontja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üzemeltető célja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onosítani a biztonsági lyukakat és megszüntetni ők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508720" y="5589720"/>
            <a:ext cx="3456000" cy="1098360"/>
            <a:chOff x="5508720" y="5589720"/>
            <a:chExt cx="3456000" cy="1098360"/>
          </a:xfrm>
        </p:grpSpPr>
        <p:sp>
          <p:nvSpPr>
            <p:cNvPr id="93" name=""/>
            <p:cNvSpPr/>
            <p:nvPr/>
          </p:nvSpPr>
          <p:spPr>
            <a:xfrm>
              <a:off x="5508720" y="5589720"/>
              <a:ext cx="3456000" cy="109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5634360" y="5871600"/>
            <a:ext cx="3141720" cy="644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4360" y="5871600"/>
                      <a:ext cx="3141720" cy="64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6" name=""/>
            <p:cNvGrpSpPr/>
            <p:nvPr/>
          </p:nvGrpSpPr>
          <p:grpSpPr>
            <a:xfrm>
              <a:off x="5634360" y="5746680"/>
              <a:ext cx="596160" cy="219240"/>
              <a:chOff x="5634360" y="5746680"/>
              <a:chExt cx="596160" cy="219240"/>
            </a:xfrm>
          </p:grpSpPr>
          <p:sp>
            <p:nvSpPr>
              <p:cNvPr id="97" name=""/>
              <p:cNvSpPr/>
              <p:nvPr/>
            </p:nvSpPr>
            <p:spPr>
              <a:xfrm>
                <a:off x="5668920" y="5746680"/>
                <a:ext cx="561600" cy="219240"/>
              </a:xfrm>
              <a:prstGeom prst="rightArrow">
                <a:avLst>
                  <a:gd name="adj1" fmla="val 50000"/>
                  <a:gd name="adj2" fmla="val 64039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34360" y="5778360"/>
                <a:ext cx="56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0,</a:t>
                </a:r>
                <a:r>
                  <a:rPr b="0" lang="hu-HU" sz="600" spc="-1" strike="noStrike">
                    <a:solidFill>
                      <a:srgbClr val="000000"/>
                    </a:solidFill>
                    <a:latin typeface="Arial"/>
                  </a:rPr>
                  <a:t>80,44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514200" y="5746680"/>
              <a:ext cx="501840" cy="219600"/>
              <a:chOff x="6514200" y="5746680"/>
              <a:chExt cx="501840" cy="21960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6514200" y="5746680"/>
                <a:ext cx="501840" cy="219600"/>
              </a:xfrm>
              <a:prstGeom prst="rightArrow">
                <a:avLst>
                  <a:gd name="adj1" fmla="val 50000"/>
                  <a:gd name="adj2" fmla="val 57131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75400" y="5778360"/>
                <a:ext cx="408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500" spc="-1" strike="noStrike">
                    <a:solidFill>
                      <a:srgbClr val="000000"/>
                    </a:solidFill>
                    <a:latin typeface="Arial"/>
                  </a:rPr>
                  <a:t>minde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Felkészül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ktuális security hotfixek telepíté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udit napló átkonfigurálása (ftp, tftp és cmd auditja), hogy leközelebb részletesebb adatokat kaphassun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Olvasni, olvasni, olvas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icrosoft.com/technet/security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ecuriteam.com/windowsntfocus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foundstone.co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ntbugtraq.co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or.bindview.com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érdések és válasz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3860640"/>
            <a:ext cx="7705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Arial"/>
              </a:rPr>
              <a:t>Mikor</a:t>
            </a:r>
            <a:r>
              <a:rPr b="0" lang="hu-HU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ff9966"/>
                </a:solidFill>
                <a:latin typeface="Arial"/>
              </a:rPr>
              <a:t>ellenőrzited</a:t>
            </a:r>
            <a:r>
              <a:rPr b="0" lang="hu-HU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66"/>
                </a:solidFill>
                <a:latin typeface="Arial"/>
              </a:rPr>
              <a:t>utoljára</a:t>
            </a:r>
            <a:r>
              <a:rPr b="0" lang="hu-HU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ff9966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0" lang="hu-HU" sz="4800" spc="-1" strike="noStrike">
                <a:solidFill>
                  <a:srgbClr val="ff9966"/>
                </a:solidFill>
                <a:latin typeface="Arial"/>
              </a:rPr>
              <a:t>szervered</a:t>
            </a:r>
            <a:r>
              <a:rPr b="0" lang="hu-HU" sz="3200" spc="-1" strike="noStrike">
                <a:solidFill>
                  <a:srgbClr val="ff99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uwamish On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nyomoz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onzekvenciák és felkészülé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Duwamis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Onli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609480" y="1523880"/>
            <a:ext cx="7772400" cy="45529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4716360" y="3860640"/>
            <a:ext cx="3320280" cy="2265480"/>
            <a:chOff x="4716360" y="3860640"/>
            <a:chExt cx="3320280" cy="2265480"/>
          </a:xfrm>
        </p:grpSpPr>
        <p:sp>
          <p:nvSpPr>
            <p:cNvPr id="49" name=""/>
            <p:cNvSpPr/>
            <p:nvPr/>
          </p:nvSpPr>
          <p:spPr>
            <a:xfrm>
              <a:off x="4716360" y="3860640"/>
              <a:ext cx="1224000" cy="1297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95640" y="5300640"/>
              <a:ext cx="224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00"/>
                  </a:solidFill>
                  <a:latin typeface="Arial"/>
                </a:rPr>
                <a:t>Alkalmazás-</a:t>
              </a:r>
              <a:br>
                <a:rPr sz="2400"/>
              </a:br>
              <a:r>
                <a:rPr b="1" lang="hu-HU" sz="2400" spc="-1" strike="noStrike">
                  <a:solidFill>
                    <a:srgbClr val="ffff00"/>
                  </a:solidFill>
                  <a:latin typeface="Arial"/>
                </a:rPr>
                <a:t>logika (COM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300720" y="1268280"/>
            <a:ext cx="2694600" cy="865440"/>
            <a:chOff x="6300720" y="1268280"/>
            <a:chExt cx="2694600" cy="865440"/>
          </a:xfrm>
        </p:grpSpPr>
        <p:sp>
          <p:nvSpPr>
            <p:cNvPr id="52" name=""/>
            <p:cNvSpPr/>
            <p:nvPr/>
          </p:nvSpPr>
          <p:spPr>
            <a:xfrm>
              <a:off x="6879240" y="1268280"/>
              <a:ext cx="21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Arial"/>
                </a:rPr>
                <a:t>SQL Ser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300720" y="1700280"/>
              <a:ext cx="576360" cy="433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77440" y="4005360"/>
            <a:ext cx="959400" cy="2249280"/>
            <a:chOff x="3277440" y="4005360"/>
            <a:chExt cx="959400" cy="2249280"/>
          </a:xfrm>
        </p:grpSpPr>
        <p:sp>
          <p:nvSpPr>
            <p:cNvPr id="55" name=""/>
            <p:cNvSpPr/>
            <p:nvPr/>
          </p:nvSpPr>
          <p:spPr>
            <a:xfrm flipH="1">
              <a:off x="3708000" y="4005360"/>
              <a:ext cx="528840" cy="1728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7440" y="5734080"/>
              <a:ext cx="91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IS</a:t>
              </a:r>
              <a:r>
                <a:rPr b="1" lang="hu-HU" sz="2800" spc="-1" strike="noStrike">
                  <a:solidFill>
                    <a:srgbClr val="ffff00"/>
                  </a:solidFill>
                  <a:latin typeface="Arial"/>
                </a:rPr>
                <a:t>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13800" y="1413000"/>
            <a:ext cx="2013120" cy="1152000"/>
            <a:chOff x="613800" y="1413000"/>
            <a:chExt cx="2013120" cy="1152000"/>
          </a:xfrm>
        </p:grpSpPr>
        <p:sp>
          <p:nvSpPr>
            <p:cNvPr id="58" name=""/>
            <p:cNvSpPr/>
            <p:nvPr/>
          </p:nvSpPr>
          <p:spPr>
            <a:xfrm flipH="1" flipV="1">
              <a:off x="1763280" y="1915920"/>
              <a:ext cx="863640" cy="649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3800" y="1413000"/>
              <a:ext cx="12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1" lang="hu-HU" sz="2800" spc="-1" strike="noStrike">
                  <a:solidFill>
                    <a:srgbClr val="ffff00"/>
                  </a:solidFill>
                  <a:latin typeface="Arial"/>
                </a:rPr>
                <a:t>űzf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844640"/>
            <a:ext cx="79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álózati dia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2492280"/>
          <a:ext cx="7201080" cy="147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92280"/>
                    <a:ext cx="720108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900000" y="2205000"/>
            <a:ext cx="1366560" cy="503280"/>
            <a:chOff x="900000" y="2205000"/>
            <a:chExt cx="1366560" cy="503280"/>
          </a:xfrm>
        </p:grpSpPr>
        <p:sp>
          <p:nvSpPr>
            <p:cNvPr id="65" name=""/>
            <p:cNvSpPr/>
            <p:nvPr/>
          </p:nvSpPr>
          <p:spPr>
            <a:xfrm>
              <a:off x="979560" y="2205000"/>
              <a:ext cx="1287000" cy="503280"/>
            </a:xfrm>
            <a:prstGeom prst="rightArrow">
              <a:avLst>
                <a:gd name="adj1" fmla="val 50000"/>
                <a:gd name="adj2" fmla="val 63931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00" y="2276640"/>
              <a:ext cx="12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,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80,4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916000" y="2205000"/>
            <a:ext cx="1150920" cy="504720"/>
            <a:chOff x="2916000" y="2205000"/>
            <a:chExt cx="1150920" cy="504720"/>
          </a:xfrm>
        </p:grpSpPr>
        <p:sp>
          <p:nvSpPr>
            <p:cNvPr id="68" name=""/>
            <p:cNvSpPr/>
            <p:nvPr/>
          </p:nvSpPr>
          <p:spPr>
            <a:xfrm flipH="1">
              <a:off x="2915640" y="2205000"/>
              <a:ext cx="1150920" cy="504720"/>
            </a:xfrm>
            <a:prstGeom prst="rightArrow">
              <a:avLst>
                <a:gd name="adj1" fmla="val 50000"/>
                <a:gd name="adj2" fmla="val 5700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59280" y="227664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mi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A Duwamish On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nyomoz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onzekvenciák és felkészülé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z es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Megváltozott a cég honlapj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rendszergazdák körbenézt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áltozott HTML fájl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Ismeretlen” fájlok a /scripts és a %temp% könyvtárakb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cégvezetés gyanítja, hogy adatok kerültek ki a háttérrendszerbő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lehető legtöbb információt gyűjte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i, mikor, honnan, hogyan változtatta meg a honlap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Történtek-e a rendszerben egyéb változások (pl. trójai programok kerültek-e beágyazásra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z adatok alapján további intézkedések legyenek foganatosítható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Információt szolgáltatni a vezetésnek arról, hogy a háttérrendszerből kerültek-e ki üzleti adat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isszaállítani a rendszer normális működésé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Megfelelő biztonsági hotfix-eket és eszközöket telepíte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A Duwamish On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Az 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nyomoz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onzekvenciák és felkészülé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nyomoz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onyítékok (naplók, módosított lapok, végrehajtható állományok) archiválás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Gyorsan vissza kell állítani a normális működést, így nincs mód online vizsgálód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Gyalu… ...restore… Vagy image..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semény időpontjának lehető legpontosabb meghatározás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naplók előfeldolgoz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ájl-dátumok vizsgá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4:10:28Z</dcterms:created>
  <dc:creator>Laszlo Pusztai</dc:creator>
  <dc:description/>
  <dc:language>en-US</dc:language>
  <cp:lastModifiedBy>Laszlo Pusztai</cp:lastModifiedBy>
  <dcterms:modified xsi:type="dcterms:W3CDTF">2001-11-12T21:44:43Z</dcterms:modified>
  <cp:revision>29</cp:revision>
  <dc:subject/>
  <dc:title>Ide jön a cím</dc:title>
</cp:coreProperties>
</file>